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D665B-2967-47F1-A1BC-5E50CB82C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C22C2-24F6-46BA-93E0-435BDA6B4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6AD75-0FCF-4E1F-8F86-EF03669D8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3A3FF-DA22-4BC0-B6AB-8174A9A80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64E24-71A0-42BF-BF9D-5594A517B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58E6A-4309-41F0-9611-3D61B6EA7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1620E-0A08-426C-9449-7C1FB2A24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D1ADF-B187-4FEC-ACBB-56444A1D2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FC21A-6F5D-438B-8099-2FC64980A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8B9D0-F4B7-4404-9DF5-3C44D3B85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97797-BA8B-49CC-ACD7-8D8AE88A5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B0ED4-51C5-40AA-9293-BC630A05B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0C6A2-2748-4CD9-89F2-E4BFC2EE5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1D178-1DCD-4DD8-A53D-AB7381154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1B580-489E-498B-BA0F-D7B0536F1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27AD3-0D20-4F25-A7BC-8BC3ECB14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3BC5B-D2B4-4051-B6DF-B3B89018D3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CFD10-4BFD-416A-9103-464D5DA31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740E5-B986-4DD0-B4A0-AB5D0A48C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A5016-ECD4-4CD6-94F8-45B36C189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0FCF4-23EE-4A56-A25F-EF00DF6A8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05953-8652-4759-903A-8ECB4D658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9B74B-952B-43B1-963E-D7559E81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BA01A-7B47-4D07-96BD-03C323DE7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22FE-7352-41E1-AC0D-BAA8BB5E43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090E-FA76-4165-8CD1-EE9875096EB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enesis 22-23</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1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st of Abraham</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2</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aith and obedience of Abraham put to a most extraordinary test, v. 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commanded to offer his beloved son Isaac for a burn-offering, v. 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repares with the utmost promptness to accomplish the will of God, v. 3.</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reat words of Isaac, v. 7.</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s answer, v. 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st of Abraham</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2</a:t>
            </a:r>
            <a:endParaRPr b="0" lang="en-US" sz="2000" spc="-1" strike="noStrike">
              <a:solidFill>
                <a:srgbClr val="ffffff"/>
              </a:solidFill>
              <a:latin typeface="Arial"/>
            </a:endParaRPr>
          </a:p>
          <a:p>
            <a:pPr marL="339480" indent="-3394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ing arrived at Mount Moriah, Abraham prepares to sacrifice his son, v. 9-10.</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is prevented from doing so by an angel of the Lord, v. 11-12.</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am is offered in the place of Isaac, v. 13.</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ce is named Jehovah-jireh, v. 1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el of the Lord calls to Abraham a second time, v. 15.</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most solemn manner, Abraham is assured of innumerable blessings in the multiplication and prosperity of his seed, v. 16-18.</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2:19-24</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 22</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returns and dwells at Beer-sheba, v. 19.</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hears that his brother Nahor has eight children by his wife Milcah, v. 20.</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names of Nahor and Milcah, v. 21-23.</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children of Nahor by his concubine Reumah, v. 2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3</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3</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ge and death of Sarah, v. 1-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mourns for her, and he requests a burial-place from the sons of Heth, v. 2-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reely offer him the choice of all their graves, v. 5-6.</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refuses to receive anything as a free gift, and he requests to buy the cave of Machpelah from Ephron, v. 7-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hron offers the cave and the field in which it was situated as a free gift unto Abraham, v. 10-1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3</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3</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Abraham insists upon paying its value in money, v. 12-13.</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Ephron consents and names the sum of four hundred shekels, v. 14-15.</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weighs him the money in the presence of the people, in consequence of which the cave, the whole field, trees, etc., are confirmed to him and his family as Abraham's possession, v. 16-18.</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nsaction being completed, Sarah is buried in the cave, v. 1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ons of Heth ratify the bargain, v. 2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rry W. Benton</cp:lastModifiedBy>
  <dcterms:modified xsi:type="dcterms:W3CDTF">2004-08-22T06:54:30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